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2390-B50C-474F-9A85-2F42C4EC4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ark salmon paper with your general description, there is a wiki address.  This entire notebook is on this wiki.  I will also be posting addtinal things, such as a summary of a visit to Cabarrus County.  I will be inviting all of you to join this wi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DA7-FC84-40ED-A564-9B81BDFC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B4F-1031-40C0-81BA-E3F0A3DF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CAF-6F47-4612-BC81-B22ABAF8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BDD-A210-443D-8B40-ACD67DDA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4515-0165-4EF3-ACA3-FF035EE2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88EA-93D1-47DE-B83E-A9C33AC8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7884-52CE-4132-A3F7-2D82A326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0B90-2B49-4FBD-9927-2C7294B2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186A-F35C-4301-8753-CF8C7DE8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67E9-3DBB-41E5-BE4E-6EF97A2C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69AE-AFFF-4DB3-BE02-7609AF6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741-48C5-468C-9D86-F8A5C83B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377D-18C7-4E04-BE0B-5E0BE820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5059-27A7-4FBD-9FAC-52500D75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C5CD-B19E-4296-9AFD-0720E10F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AF80-F0C7-4DCD-8C42-787CB4B9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1BB9-DCC8-48A5-8472-EBC94CD0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E2C-FD49-4B24-ADB6-FA55FFFD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187-28BB-484B-BEA5-9CE0975E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84A-5467-447B-A5B9-5CA92328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2C9-E07A-44E6-B0BF-24834E0D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FEC-680E-4902-BD90-0DCE2B7A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D0E-FBD4-4F2B-8F83-D3EA94FA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704-A043-4BC8-8E7E-BBFAE967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1BAD-0419-40F8-B481-CD2C0E59B8F7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38B0-6EA8-4427-8A23-E6282A9AE239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Implementation%20Guide.ppt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RtI Support Facilitator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rebuchet MS"/>
              </a:rPr>
              <a:t>Role and Responsibilit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ttend support committee meetin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vide feedback to the district’s RtI team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ist with problem-solving through school and district concer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arn about updates, et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tative schedule:  Sept., Oct., Nov., Jan., March, and M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ttend some PLC meeting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vide initial support in the discus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viewing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cussing students’ nee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interven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dentify what professional development may be need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315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e a contact person for ques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Primary Rol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vide support to schools in implementing R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ssist the district with identifying resources and ways to streamline proce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Responsibilitie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tilize the implementation guide to support school’s implementation effor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rve as a member of the school’s implementation tea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vide feedback to the district’s support committee and the district’s RtI tea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sist with problem-solving through school and district concern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ttend RtI Support Trai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verview of Rt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ponsibilities as a support pers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eting Protoco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ven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liance Iss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ier I, Tier II, Tier III, &amp; Standard Protocol logistic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IMSweb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tilize implementation guide to support school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is a guide to help you identify where the school is in their implementation effor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guide is to be used throughout the year, not a one time evaluation instrumen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8040"/>
                </a:solidFill>
                <a:uFillTx/>
                <a:latin typeface="Trebuchet MS"/>
                <a:hlinkClick r:id="rId2"/>
              </a:rPr>
              <a:t>Implementation Guid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eam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514600"/>
            <a:ext cx="7162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4080"/>
              </a:buClr>
              <a:buSzPct val="9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plementation Team - This team discusses RtI implementation, including processes,etc.  This team also helps problem-solve through obstacl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004080"/>
              </a:buClr>
              <a:buSzPct val="9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tI Team - This team discusses individual studen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ttend three RtI meetings:  Fall, Winter, Sp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are an observer and supporter, not a participa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r attendance may be needed more if more support is need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mes of your attendance may need to be adjusted depending on the school’s caseload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ttend monthly implementation team meeting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should be a strong participant, but not the lead facilitato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f needed, assist lead facilitator with developing an agenda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e School Implementation Team’s Responsibiliti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8:20:30Z</dcterms:created>
  <dc:creator>Chatham County Schools</dc:creator>
  <dc:description/>
  <dc:language>en-US</dc:language>
  <cp:lastModifiedBy>Chatham County Schools</cp:lastModifiedBy>
  <dcterms:modified xsi:type="dcterms:W3CDTF">2010-06-24T13:53:48Z</dcterms:modified>
  <cp:revision>16</cp:revision>
  <dc:subject/>
  <dc:title>RtI Support Person</dc:title>
</cp:coreProperties>
</file>